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2A99-C7CD-4506-BD1B-8EB62C79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2836-6AAF-4DDE-BCF7-9B00A6D6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FD0A-0A9B-40D0-971A-60A936BF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AEE-411E-4572-B23D-45AC69FD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4C0D-3BBD-432D-88BD-5F84528A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872D-76A3-42DE-9557-AFCF3B26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0CC9-8F78-4D0B-BD5C-BBA892F0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8B75-9985-4B36-96ED-211B613C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51E6-8B2C-47F6-8750-443CE973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A2E-B776-42EA-81F6-E00FAC72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A995-7FC6-4DBC-84F9-14939EE2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9A5-D820-4B48-8239-164DEEEE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4124-2823-41F0-84D7-AF30F3C22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fol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Se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5:10:53Z</dcterms:created>
  <dc:creator>rhaseitl</dc:creator>
  <dc:description/>
  <dc:language>en-US</dc:language>
  <cp:lastModifiedBy>rhaseitl</cp:lastModifiedBy>
  <dcterms:modified xsi:type="dcterms:W3CDTF">2011-11-22T15:10:58Z</dcterms:modified>
  <cp:revision>1</cp:revision>
  <dc:subject/>
  <dc:title>Testfolien</dc:title>
</cp:coreProperties>
</file>